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0C2-FC4D-45FD-9655-81B31C4C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DA0-E49A-4A13-A524-4A5F55A0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A7C-4CFF-4EEB-ADE6-D32CEDB0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D16-88F1-48A9-821D-515E28A2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42D8-4CF8-4B50-BDD9-706EB6FF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F26C-CCFE-46B3-9F45-EBD63230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3DD5-5CEF-4677-A62A-88A5B839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6BD4-B13E-4B3F-B49B-7BD1BC0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A83D-57F3-454B-BFDC-E4D53CC3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EE8-5793-4410-B279-A03A1BDA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FD3E-CC92-4E40-81D0-110797E4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49E-AEE4-4923-82E6-38A19BF4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9106-8194-4E84-91FD-3AE7608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CF89-C35B-48D4-B588-81850D19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D80E-DCDB-41D1-8148-AD501924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E836-EBD7-4CF3-B001-76DC54ED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B104-0555-444C-8BDF-FE184E9D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CEB4-EE6A-4588-A871-1AD9620D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D33D-D233-481B-8F91-76262995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22CB-D2A4-4B14-A724-B69EFF81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F529-A77B-47B2-88FA-2EBA3643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5D8B-176C-4EC3-ACC2-C85100D3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1C0-FE0D-47B9-8148-7F90EAAF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9411-D574-4FF7-B6B6-BE1ED9A8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A00A-ABF6-484C-8293-BE5CFB4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ABAB-6B99-4616-9537-AEF6B26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0F9F5-9B4C-4C3B-84DB-1D734395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8493-C244-4CD4-87F3-8ED3FB12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7F52-722B-454A-ACF7-2128D776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10DD-AE62-4933-9AB2-C976D568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B769-05A0-4050-83F0-EDD10F68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57B05-4AA6-4B40-B42C-508306EB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18BE0-52A5-4B88-B7BD-42A3DF05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F70-A33F-4318-B80C-0660F953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C815-47EF-40B7-A003-F783FD41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58EB-A697-4E94-BA38-5E1EBBC4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9A84-9075-4636-A1EA-43772DA7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F306-F626-4F56-8BAB-60CCAA5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C00BC-8075-49D7-B2C6-3B437C6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9227-BD08-42DB-AA46-AC65ACC3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1572-9720-4761-8FB9-84941F7A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0228A-3832-4D33-B23F-523E49E2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F543-9714-4A64-BB33-91A0F438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59616-76F0-4FFE-AE91-542D5D9E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740-AF25-42D2-9CB2-A9481F17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C3AA-1432-4D9A-9E64-400449E0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28969-E8CE-4A48-9E60-9DC6C036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A8B20-16E8-447C-8F35-1A309B2B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0FCD8-933E-4F0D-BB3B-CF36A5FA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6AC1F-6684-46CB-9CEC-BBBD33E6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20B8E-5230-45F9-98D2-BDD450BE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EC93-60A5-4460-99C4-0003BAAB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414D-5467-4A9B-87C3-ACAD95C3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EBC9-14FC-42D2-B454-A457CBDB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4FF13-C054-4048-AEBD-C2FFB693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12B-8A2D-40A5-8069-67149AC5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1E0D-A5BD-480F-BF2E-A8FA426F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5B4A-CCDF-4D87-B7A3-53D30632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FBD3A-1B2E-4DBA-8322-D93FC0A1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1F0CA-04C9-462D-A661-FF0FC1C8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F943-3C7E-4384-ADAD-7D9B0D7E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0AB0A-331A-4089-BED0-2F834AC2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F24D4-E02C-4CBD-A739-1DDEE32F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4319-08E2-43C0-BCC6-CFB0C3D2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6FA01-E44C-4ADB-B769-171BF5B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CD8D8-0A6D-4B1F-98D3-D307ADC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BEB-03E2-43D8-850D-721BD1D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7CE87-EFE4-4EA2-A3AB-4B3CC4CC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A6DAE-7BEB-4238-8677-90EF7357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4BE0B-978C-44F3-9ABE-754213B4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D919E-8AF6-4F2E-AC67-4E8F18A5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CEEC1-6D51-4779-B10B-41547B21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019D8-1AEA-4BA2-8CE3-3F8C0401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A065-E58C-4417-954F-B38F65BE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8D63-DC07-44B7-A3ED-811F35FC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EE7EB-12A8-471E-B388-323D76F9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4E633-0C1E-44B3-815B-06D1979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58B-7A51-4838-A248-FECBAE51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53B88-C0D4-46A3-BCC8-AF064554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C2A9D-5D9B-4D7C-AB68-A87371E1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2E348-8AEC-4827-AE85-0C167D77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8623-13BD-440B-843D-0B17F8DF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B489A-E72E-4B11-9B33-689ECAF0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350DD-1C77-4AFC-9C3A-075F010B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94D6-59B6-4C01-A1F6-D447947B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12452-7799-442E-B3EC-484F32F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0784E-2BDD-4FAB-B3CA-A730420F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FF055-F4C4-4578-8F5B-0233420F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83A-A4DA-4B34-876A-EB107702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29E83-F95A-491E-80A2-D1240C2B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9766C-7FC9-4CEE-A91A-79D046C9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DD140-60E9-4E45-9DC8-1F9D1242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06624-2DA9-47D4-9F69-2C63282E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F85C0-7602-4040-AFBA-37F2B6B0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95871-D6D0-4D01-B1CB-ABCBAB3B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CA45E-5F1A-4433-9153-9150185E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3E6B-17FB-4B55-9CB4-AEC877D7B04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4D07-4FE5-48AC-87FC-03517A5A74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89EA-1FE2-408F-B170-DB5D054FE3A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83F3-10E2-466D-8B75-83F832B6E3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B310-6D06-4CA7-8848-6913B0B184C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5163-8673-4147-9574-1F5BA1449A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54C2-3BC1-4B94-903E-219070EDF49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BE47-1C4B-448D-B0DC-1109CEFCA0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54F8-946F-478B-AFB5-99B6F28B0F7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C0FC-1840-4B07-9193-963D8B894A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E0A0-35AD-4E19-89CE-D27C5A83177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34A4-7C63-427E-9E1F-25B5288211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2F4F-BE51-450F-BDC3-520E950C715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FA21-B8D4-4687-A166-7D348F2A7A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9FE-85D8-4941-AB20-5C34F7BEE87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4AB1-983B-485D-8308-35921DD356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457200" y="1447920"/>
            <a:ext cx="4114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ales Journ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sh Receipts Journ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ales Discou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ales Retur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ales Allowa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redit Memorandu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xpor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5029200" y="1447920"/>
            <a:ext cx="4114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 of Sa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Letter of Cred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ill of Lad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mercial Invo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ra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ght Dra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ime Dra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rade Accepta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907920" y="146160"/>
            <a:ext cx="82425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D:\C21 PowerPoint\Multi_Journal\art for blue\Ch19\Ch19-01a.jpg"/>
          <p:cNvPicPr/>
          <p:nvPr/>
        </p:nvPicPr>
        <p:blipFill>
          <a:blip r:embed="rId3"/>
          <a:srcRect l="8715" t="0" r="0" b="62119"/>
          <a:stretch/>
        </p:blipFill>
        <p:spPr>
          <a:xfrm>
            <a:off x="457200" y="1457280"/>
            <a:ext cx="8153280" cy="242892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5"/>
          <p:cNvSpPr/>
          <p:nvPr/>
        </p:nvSpPr>
        <p:spPr>
          <a:xfrm>
            <a:off x="3962520" y="1981080"/>
            <a:ext cx="1447560" cy="106704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6"/>
          <p:cNvSpPr/>
          <p:nvPr/>
        </p:nvSpPr>
        <p:spPr>
          <a:xfrm>
            <a:off x="4800600" y="1981080"/>
            <a:ext cx="2514600" cy="106704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7"/>
          <p:cNvSpPr/>
          <p:nvPr/>
        </p:nvSpPr>
        <p:spPr>
          <a:xfrm>
            <a:off x="5638680" y="1981080"/>
            <a:ext cx="2438640" cy="106704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2"/>
          <a:stretch/>
        </p:blipFill>
        <p:spPr>
          <a:xfrm>
            <a:off x="-6480" y="-79200"/>
            <a:ext cx="9156960" cy="11523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457200" y="8380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. Sold merchandise on account to Tennis Castle, $1,800.00, plus sales tax, $144.00; total, $1,944.00. Sales Invoice No. 17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457200" y="1676520"/>
            <a:ext cx="281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 Tax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7373880" y="167004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5697360" y="167652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639960" y="1676520"/>
            <a:ext cx="1676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4433760" y="3913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9"/>
          <p:cNvGrpSpPr/>
          <p:nvPr/>
        </p:nvGrpSpPr>
        <p:grpSpPr>
          <a:xfrm>
            <a:off x="3905640" y="4132440"/>
            <a:ext cx="1961280" cy="441360"/>
            <a:chOff x="3905640" y="4132440"/>
            <a:chExt cx="1961280" cy="441360"/>
          </a:xfrm>
        </p:grpSpPr>
        <p:sp>
          <p:nvSpPr>
            <p:cNvPr id="387" name="Text Box 10"/>
            <p:cNvSpPr/>
            <p:nvPr/>
          </p:nvSpPr>
          <p:spPr>
            <a:xfrm>
              <a:off x="3905640" y="420552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11"/>
            <p:cNvSpPr/>
            <p:nvPr/>
          </p:nvSpPr>
          <p:spPr>
            <a:xfrm>
              <a:off x="4267080" y="413244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944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12"/>
          <p:cNvSpPr/>
          <p:nvPr/>
        </p:nvSpPr>
        <p:spPr>
          <a:xfrm>
            <a:off x="496800" y="3913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834480" y="419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94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478800" y="408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4404600" y="408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496800" y="48736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2397960" y="51595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8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2042640" y="504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47"/>
          <p:cNvGrpSpPr/>
          <p:nvPr/>
        </p:nvGrpSpPr>
        <p:grpSpPr>
          <a:xfrm>
            <a:off x="573120" y="3200400"/>
            <a:ext cx="7567560" cy="3268800"/>
            <a:chOff x="573120" y="3200400"/>
            <a:chExt cx="7567560" cy="3268800"/>
          </a:xfrm>
        </p:grpSpPr>
        <p:sp>
          <p:nvSpPr>
            <p:cNvPr id="397" name="Text Box 30"/>
            <p:cNvSpPr/>
            <p:nvPr/>
          </p:nvSpPr>
          <p:spPr>
            <a:xfrm>
              <a:off x="686880" y="3200400"/>
              <a:ext cx="25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GENERAL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31"/>
            <p:cNvSpPr/>
            <p:nvPr/>
          </p:nvSpPr>
          <p:spPr>
            <a:xfrm>
              <a:off x="3657600" y="3206880"/>
              <a:ext cx="448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CCOUNTS RECEIVABLE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Group 46"/>
            <p:cNvGrpSpPr/>
            <p:nvPr/>
          </p:nvGrpSpPr>
          <p:grpSpPr>
            <a:xfrm>
              <a:off x="573120" y="3458880"/>
              <a:ext cx="6756480" cy="3010320"/>
              <a:chOff x="573120" y="3458880"/>
              <a:chExt cx="6756480" cy="3010320"/>
            </a:xfrm>
          </p:grpSpPr>
          <p:grpSp>
            <p:nvGrpSpPr>
              <p:cNvPr id="400" name="Group 20"/>
              <p:cNvGrpSpPr/>
              <p:nvPr/>
            </p:nvGrpSpPr>
            <p:grpSpPr>
              <a:xfrm>
                <a:off x="4510080" y="3458880"/>
                <a:ext cx="2819520" cy="1019520"/>
                <a:chOff x="4510080" y="3458880"/>
                <a:chExt cx="2819520" cy="1019520"/>
              </a:xfrm>
            </p:grpSpPr>
            <p:sp>
              <p:nvSpPr>
                <p:cNvPr id="401" name="Text Box 21"/>
                <p:cNvSpPr/>
                <p:nvPr/>
              </p:nvSpPr>
              <p:spPr>
                <a:xfrm>
                  <a:off x="5121000" y="3458880"/>
                  <a:ext cx="15753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ennis Cas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" name="Group 22"/>
                <p:cNvGrpSpPr/>
                <p:nvPr/>
              </p:nvGrpSpPr>
              <p:grpSpPr>
                <a:xfrm>
                  <a:off x="4510080" y="3944880"/>
                  <a:ext cx="2819520" cy="533520"/>
                  <a:chOff x="4510080" y="3944880"/>
                  <a:chExt cx="2819520" cy="533520"/>
                </a:xfrm>
              </p:grpSpPr>
              <p:sp>
                <p:nvSpPr>
                  <p:cNvPr id="403" name="Line 23"/>
                  <p:cNvSpPr/>
                  <p:nvPr/>
                </p:nvSpPr>
                <p:spPr>
                  <a:xfrm>
                    <a:off x="4510080" y="394488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Line 24"/>
                  <p:cNvSpPr/>
                  <p:nvPr/>
                </p:nvSpPr>
                <p:spPr>
                  <a:xfrm>
                    <a:off x="5919840" y="394488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" name="Group 25"/>
              <p:cNvGrpSpPr/>
              <p:nvPr/>
            </p:nvGrpSpPr>
            <p:grpSpPr>
              <a:xfrm>
                <a:off x="573120" y="3458880"/>
                <a:ext cx="2819520" cy="1019520"/>
                <a:chOff x="573120" y="3458880"/>
                <a:chExt cx="2819520" cy="1019520"/>
              </a:xfrm>
            </p:grpSpPr>
            <p:sp>
              <p:nvSpPr>
                <p:cNvPr id="406" name="Text Box 26"/>
                <p:cNvSpPr/>
                <p:nvPr/>
              </p:nvSpPr>
              <p:spPr>
                <a:xfrm>
                  <a:off x="710280" y="3458880"/>
                  <a:ext cx="23097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ccounts Receiv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Group 27"/>
                <p:cNvGrpSpPr/>
                <p:nvPr/>
              </p:nvGrpSpPr>
              <p:grpSpPr>
                <a:xfrm>
                  <a:off x="573120" y="3944880"/>
                  <a:ext cx="2819520" cy="533520"/>
                  <a:chOff x="573120" y="3944880"/>
                  <a:chExt cx="2819520" cy="533520"/>
                </a:xfrm>
              </p:grpSpPr>
              <p:sp>
                <p:nvSpPr>
                  <p:cNvPr id="408" name="Line 28"/>
                  <p:cNvSpPr/>
                  <p:nvPr/>
                </p:nvSpPr>
                <p:spPr>
                  <a:xfrm>
                    <a:off x="573120" y="394488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Line 29"/>
                  <p:cNvSpPr/>
                  <p:nvPr/>
                </p:nvSpPr>
                <p:spPr>
                  <a:xfrm>
                    <a:off x="1982880" y="394488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0" name="Group 32"/>
              <p:cNvGrpSpPr/>
              <p:nvPr/>
            </p:nvGrpSpPr>
            <p:grpSpPr>
              <a:xfrm>
                <a:off x="573120" y="4419360"/>
                <a:ext cx="2819520" cy="1019520"/>
                <a:chOff x="573120" y="4419360"/>
                <a:chExt cx="2819520" cy="1019520"/>
              </a:xfrm>
            </p:grpSpPr>
            <p:sp>
              <p:nvSpPr>
                <p:cNvPr id="411" name="Text Box 33"/>
                <p:cNvSpPr/>
                <p:nvPr/>
              </p:nvSpPr>
              <p:spPr>
                <a:xfrm>
                  <a:off x="1490040" y="4419360"/>
                  <a:ext cx="75060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Group 34"/>
                <p:cNvGrpSpPr/>
                <p:nvPr/>
              </p:nvGrpSpPr>
              <p:grpSpPr>
                <a:xfrm>
                  <a:off x="573120" y="4905360"/>
                  <a:ext cx="2819520" cy="533520"/>
                  <a:chOff x="573120" y="4905360"/>
                  <a:chExt cx="2819520" cy="533520"/>
                </a:xfrm>
              </p:grpSpPr>
              <p:sp>
                <p:nvSpPr>
                  <p:cNvPr id="413" name="Line 35"/>
                  <p:cNvSpPr/>
                  <p:nvPr/>
                </p:nvSpPr>
                <p:spPr>
                  <a:xfrm>
                    <a:off x="573120" y="490536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Line 36"/>
                  <p:cNvSpPr/>
                  <p:nvPr/>
                </p:nvSpPr>
                <p:spPr>
                  <a:xfrm>
                    <a:off x="1982880" y="490536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Group 38"/>
              <p:cNvGrpSpPr/>
              <p:nvPr/>
            </p:nvGrpSpPr>
            <p:grpSpPr>
              <a:xfrm>
                <a:off x="574560" y="5449680"/>
                <a:ext cx="2819520" cy="1019520"/>
                <a:chOff x="574560" y="5449680"/>
                <a:chExt cx="2819520" cy="1019520"/>
              </a:xfrm>
            </p:grpSpPr>
            <p:sp>
              <p:nvSpPr>
                <p:cNvPr id="416" name="Text Box 39"/>
                <p:cNvSpPr/>
                <p:nvPr/>
              </p:nvSpPr>
              <p:spPr>
                <a:xfrm>
                  <a:off x="825480" y="5449680"/>
                  <a:ext cx="208260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ales Tax Pay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Group 40"/>
                <p:cNvGrpSpPr/>
                <p:nvPr/>
              </p:nvGrpSpPr>
              <p:grpSpPr>
                <a:xfrm>
                  <a:off x="574560" y="5935680"/>
                  <a:ext cx="2819520" cy="533520"/>
                  <a:chOff x="574560" y="5935680"/>
                  <a:chExt cx="2819520" cy="533520"/>
                </a:xfrm>
              </p:grpSpPr>
              <p:sp>
                <p:nvSpPr>
                  <p:cNvPr id="418" name="Line 41"/>
                  <p:cNvSpPr/>
                  <p:nvPr/>
                </p:nvSpPr>
                <p:spPr>
                  <a:xfrm>
                    <a:off x="574560" y="593568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Line 42"/>
                  <p:cNvSpPr/>
                  <p:nvPr/>
                </p:nvSpPr>
                <p:spPr>
                  <a:xfrm>
                    <a:off x="1984320" y="593568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0" name="Text Box 43"/>
          <p:cNvSpPr/>
          <p:nvPr/>
        </p:nvSpPr>
        <p:spPr>
          <a:xfrm>
            <a:off x="533520" y="5940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2625120" y="6226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5"/>
          <p:cNvSpPr/>
          <p:nvPr/>
        </p:nvSpPr>
        <p:spPr>
          <a:xfrm>
            <a:off x="2079000" y="6108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D:\C21 PowerPoint\Multi_Journal\art for blue\Ch19\Ch19-01b.jpg"/>
          <p:cNvPicPr/>
          <p:nvPr/>
        </p:nvPicPr>
        <p:blipFill>
          <a:blip r:embed="rId3"/>
          <a:srcRect l="25495" t="0" r="0" b="81577"/>
          <a:stretch/>
        </p:blipFill>
        <p:spPr>
          <a:xfrm>
            <a:off x="439560" y="1143000"/>
            <a:ext cx="8170920" cy="1957320"/>
          </a:xfrm>
          <a:prstGeom prst="rect">
            <a:avLst/>
          </a:prstGeom>
          <a:ln w="0">
            <a:noFill/>
          </a:ln>
        </p:spPr>
      </p:pic>
      <p:sp>
        <p:nvSpPr>
          <p:cNvPr id="425" name="Oval 6"/>
          <p:cNvSpPr/>
          <p:nvPr/>
        </p:nvSpPr>
        <p:spPr>
          <a:xfrm>
            <a:off x="632448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380880" y="1828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5105520" y="26668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2133720" y="26668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514440" y="40910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invoi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514440" y="445464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Amount Plus Sales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514440" y="37180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514440" y="481644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514440" y="518148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Tax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7"/>
          <p:cNvSpPr/>
          <p:nvPr/>
        </p:nvSpPr>
        <p:spPr>
          <a:xfrm>
            <a:off x="769608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2"/>
          <a:stretch/>
        </p:blipFill>
        <p:spPr>
          <a:xfrm>
            <a:off x="450720" y="133200"/>
            <a:ext cx="8242560" cy="1062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D:\C21 PowerPoint\Multi_Journal\art for blue\Ch19\Ch19-01c.jpg"/>
          <p:cNvPicPr/>
          <p:nvPr/>
        </p:nvPicPr>
        <p:blipFill>
          <a:blip r:embed="rId3"/>
          <a:srcRect l="24532" t="0" r="0" b="65797"/>
          <a:stretch/>
        </p:blipFill>
        <p:spPr>
          <a:xfrm>
            <a:off x="369720" y="114300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514440" y="582768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514440" y="508968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191120" y="508788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514440" y="54547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4191120" y="545004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23"/>
          <p:cNvGrpSpPr/>
          <p:nvPr/>
        </p:nvGrpSpPr>
        <p:grpSpPr>
          <a:xfrm>
            <a:off x="1177920" y="2666880"/>
            <a:ext cx="533520" cy="1828800"/>
            <a:chOff x="1177920" y="2666880"/>
            <a:chExt cx="533520" cy="1828800"/>
          </a:xfrm>
        </p:grpSpPr>
        <p:sp>
          <p:nvSpPr>
            <p:cNvPr id="445" name="Line 17"/>
            <p:cNvSpPr/>
            <p:nvPr/>
          </p:nvSpPr>
          <p:spPr>
            <a:xfrm>
              <a:off x="1447920" y="2666880"/>
              <a:ext cx="0" cy="18288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6"/>
            <p:cNvSpPr/>
            <p:nvPr/>
          </p:nvSpPr>
          <p:spPr>
            <a:xfrm>
              <a:off x="1177920" y="289548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4"/>
          <p:cNvGrpSpPr/>
          <p:nvPr/>
        </p:nvGrpSpPr>
        <p:grpSpPr>
          <a:xfrm>
            <a:off x="3048120" y="1371600"/>
            <a:ext cx="4419360" cy="3352680"/>
            <a:chOff x="3048120" y="1371600"/>
            <a:chExt cx="4419360" cy="3352680"/>
          </a:xfrm>
        </p:grpSpPr>
        <p:sp>
          <p:nvSpPr>
            <p:cNvPr id="448" name="Freeform 18"/>
            <p:cNvSpPr/>
            <p:nvPr/>
          </p:nvSpPr>
          <p:spPr>
            <a:xfrm>
              <a:off x="3429000" y="1447920"/>
              <a:ext cx="4038480" cy="32763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Oval 9"/>
            <p:cNvSpPr/>
            <p:nvPr/>
          </p:nvSpPr>
          <p:spPr>
            <a:xfrm>
              <a:off x="3048120" y="13716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Group 25"/>
          <p:cNvGrpSpPr/>
          <p:nvPr/>
        </p:nvGrpSpPr>
        <p:grpSpPr>
          <a:xfrm>
            <a:off x="5310360" y="2666880"/>
            <a:ext cx="533160" cy="1600200"/>
            <a:chOff x="5310360" y="2666880"/>
            <a:chExt cx="533160" cy="1600200"/>
          </a:xfrm>
        </p:grpSpPr>
        <p:sp>
          <p:nvSpPr>
            <p:cNvPr id="451" name="Line 20"/>
            <p:cNvSpPr/>
            <p:nvPr/>
          </p:nvSpPr>
          <p:spPr>
            <a:xfrm>
              <a:off x="5562720" y="2666880"/>
              <a:ext cx="0" cy="1600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5310360" y="31240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26"/>
          <p:cNvGrpSpPr/>
          <p:nvPr/>
        </p:nvGrpSpPr>
        <p:grpSpPr>
          <a:xfrm>
            <a:off x="4495320" y="2546280"/>
            <a:ext cx="3581640" cy="959040"/>
            <a:chOff x="4495320" y="2546280"/>
            <a:chExt cx="3581640" cy="959040"/>
          </a:xfrm>
        </p:grpSpPr>
        <p:sp>
          <p:nvSpPr>
            <p:cNvPr id="454" name="Line 22"/>
            <p:cNvSpPr/>
            <p:nvPr/>
          </p:nvSpPr>
          <p:spPr>
            <a:xfrm flipH="1" flipV="1">
              <a:off x="4495320" y="2546280"/>
              <a:ext cx="3581640" cy="959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Oval 5"/>
            <p:cNvSpPr/>
            <p:nvPr/>
          </p:nvSpPr>
          <p:spPr>
            <a:xfrm>
              <a:off x="6477120" y="28954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Oval 8"/>
          <p:cNvSpPr/>
          <p:nvPr/>
        </p:nvSpPr>
        <p:spPr>
          <a:xfrm>
            <a:off x="8381880" y="44197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242560" cy="1127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D:\C21 PowerPoint\Multi_Journal\art for blue\Ch19\Ch19-01d.jpg"/>
          <p:cNvPicPr/>
          <p:nvPr/>
        </p:nvPicPr>
        <p:blipFill>
          <a:blip r:embed="rId3"/>
          <a:srcRect l="15772" t="0" r="0" b="34505"/>
          <a:stretch/>
        </p:blipFill>
        <p:spPr>
          <a:xfrm>
            <a:off x="457200" y="1143000"/>
            <a:ext cx="4883040" cy="5562720"/>
          </a:xfrm>
          <a:prstGeom prst="rect">
            <a:avLst/>
          </a:prstGeom>
          <a:ln w="0">
            <a:noFill/>
          </a:ln>
        </p:spPr>
      </p:pic>
      <p:sp>
        <p:nvSpPr>
          <p:cNvPr id="459" name="Oval 7"/>
          <p:cNvSpPr/>
          <p:nvPr/>
        </p:nvSpPr>
        <p:spPr>
          <a:xfrm>
            <a:off x="1143000" y="22860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8"/>
          <p:cNvSpPr/>
          <p:nvPr/>
        </p:nvSpPr>
        <p:spPr>
          <a:xfrm>
            <a:off x="2279520" y="19987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248520" y="195732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6248520" y="12193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ingl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248520" y="2320920"/>
            <a:ext cx="17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6248520" y="15843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6248520" y="2682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6248520" y="30481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ach Special Colum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6248520" y="3716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6248520" y="4378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40"/>
          <p:cNvGrpSpPr/>
          <p:nvPr/>
        </p:nvGrpSpPr>
        <p:grpSpPr>
          <a:xfrm>
            <a:off x="380880" y="1998720"/>
            <a:ext cx="838440" cy="4689360"/>
            <a:chOff x="380880" y="1998720"/>
            <a:chExt cx="838440" cy="4689360"/>
          </a:xfrm>
        </p:grpSpPr>
        <p:sp>
          <p:nvSpPr>
            <p:cNvPr id="470" name="Oval 9"/>
            <p:cNvSpPr/>
            <p:nvPr/>
          </p:nvSpPr>
          <p:spPr>
            <a:xfrm>
              <a:off x="380880" y="19987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Oval 23"/>
            <p:cNvSpPr/>
            <p:nvPr/>
          </p:nvSpPr>
          <p:spPr>
            <a:xfrm>
              <a:off x="380880" y="35989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24"/>
            <p:cNvSpPr/>
            <p:nvPr/>
          </p:nvSpPr>
          <p:spPr>
            <a:xfrm>
              <a:off x="380880" y="49705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Oval 25"/>
            <p:cNvSpPr/>
            <p:nvPr/>
          </p:nvSpPr>
          <p:spPr>
            <a:xfrm>
              <a:off x="838080" y="630720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42"/>
          <p:cNvGrpSpPr/>
          <p:nvPr/>
        </p:nvGrpSpPr>
        <p:grpSpPr>
          <a:xfrm>
            <a:off x="3048120" y="2438280"/>
            <a:ext cx="1600200" cy="381240"/>
            <a:chOff x="3048120" y="2438280"/>
            <a:chExt cx="1600200" cy="381240"/>
          </a:xfrm>
        </p:grpSpPr>
        <p:sp>
          <p:nvSpPr>
            <p:cNvPr id="475" name="Oval 18"/>
            <p:cNvSpPr/>
            <p:nvPr/>
          </p:nvSpPr>
          <p:spPr>
            <a:xfrm>
              <a:off x="3048120" y="24382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31"/>
            <p:cNvSpPr/>
            <p:nvPr/>
          </p:nvSpPr>
          <p:spPr>
            <a:xfrm>
              <a:off x="3581280" y="24382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32"/>
            <p:cNvSpPr/>
            <p:nvPr/>
          </p:nvSpPr>
          <p:spPr>
            <a:xfrm>
              <a:off x="4267080" y="24382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Group 37"/>
          <p:cNvGrpSpPr/>
          <p:nvPr/>
        </p:nvGrpSpPr>
        <p:grpSpPr>
          <a:xfrm>
            <a:off x="4684680" y="2209680"/>
            <a:ext cx="1030320" cy="381240"/>
            <a:chOff x="4684680" y="2209680"/>
            <a:chExt cx="1030320" cy="381240"/>
          </a:xfrm>
        </p:grpSpPr>
        <p:sp>
          <p:nvSpPr>
            <p:cNvPr id="479" name="Line 35"/>
            <p:cNvSpPr/>
            <p:nvPr/>
          </p:nvSpPr>
          <p:spPr>
            <a:xfrm>
              <a:off x="4684680" y="2286000"/>
              <a:ext cx="8780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Oval 5"/>
            <p:cNvSpPr/>
            <p:nvPr/>
          </p:nvSpPr>
          <p:spPr>
            <a:xfrm>
              <a:off x="5334120" y="22096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36"/>
          <p:cNvGrpSpPr/>
          <p:nvPr/>
        </p:nvGrpSpPr>
        <p:grpSpPr>
          <a:xfrm>
            <a:off x="4689360" y="1828800"/>
            <a:ext cx="644760" cy="380880"/>
            <a:chOff x="4689360" y="1828800"/>
            <a:chExt cx="644760" cy="380880"/>
          </a:xfrm>
        </p:grpSpPr>
        <p:sp>
          <p:nvSpPr>
            <p:cNvPr id="482" name="Line 34"/>
            <p:cNvSpPr/>
            <p:nvPr/>
          </p:nvSpPr>
          <p:spPr>
            <a:xfrm>
              <a:off x="4689360" y="2116080"/>
              <a:ext cx="5335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6"/>
            <p:cNvSpPr/>
            <p:nvPr/>
          </p:nvSpPr>
          <p:spPr>
            <a:xfrm>
              <a:off x="4952880" y="182880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45"/>
          <p:cNvGrpSpPr/>
          <p:nvPr/>
        </p:nvGrpSpPr>
        <p:grpSpPr>
          <a:xfrm>
            <a:off x="1447920" y="1143000"/>
            <a:ext cx="3504960" cy="5562720"/>
            <a:chOff x="1447920" y="1143000"/>
            <a:chExt cx="3504960" cy="5562720"/>
          </a:xfrm>
        </p:grpSpPr>
        <p:sp>
          <p:nvSpPr>
            <p:cNvPr id="485" name="Oval 29"/>
            <p:cNvSpPr/>
            <p:nvPr/>
          </p:nvSpPr>
          <p:spPr>
            <a:xfrm>
              <a:off x="1752480" y="49528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30"/>
            <p:cNvSpPr/>
            <p:nvPr/>
          </p:nvSpPr>
          <p:spPr>
            <a:xfrm>
              <a:off x="1981080" y="63244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Oval 43"/>
            <p:cNvSpPr/>
            <p:nvPr/>
          </p:nvSpPr>
          <p:spPr>
            <a:xfrm>
              <a:off x="1447920" y="35812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Oval 44"/>
            <p:cNvSpPr/>
            <p:nvPr/>
          </p:nvSpPr>
          <p:spPr>
            <a:xfrm>
              <a:off x="4572000" y="11430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48"/>
          <p:cNvGrpSpPr/>
          <p:nvPr/>
        </p:nvGrpSpPr>
        <p:grpSpPr>
          <a:xfrm>
            <a:off x="2437920" y="2286000"/>
            <a:ext cx="873720" cy="4419720"/>
            <a:chOff x="2437920" y="2286000"/>
            <a:chExt cx="873720" cy="4419720"/>
          </a:xfrm>
        </p:grpSpPr>
        <p:grpSp>
          <p:nvGrpSpPr>
            <p:cNvPr id="490" name="Group 39"/>
            <p:cNvGrpSpPr/>
            <p:nvPr/>
          </p:nvGrpSpPr>
          <p:grpSpPr>
            <a:xfrm>
              <a:off x="2437920" y="2286000"/>
              <a:ext cx="381600" cy="1447920"/>
              <a:chOff x="2437920" y="2286000"/>
              <a:chExt cx="381600" cy="1447920"/>
            </a:xfrm>
          </p:grpSpPr>
          <p:sp>
            <p:nvSpPr>
              <p:cNvPr id="491" name="Line 26"/>
              <p:cNvSpPr/>
              <p:nvPr/>
            </p:nvSpPr>
            <p:spPr>
              <a:xfrm flipH="1">
                <a:off x="2437920" y="2286000"/>
                <a:ext cx="381240" cy="1447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6"/>
              <p:cNvSpPr/>
              <p:nvPr/>
            </p:nvSpPr>
            <p:spPr>
              <a:xfrm>
                <a:off x="2438280" y="2743200"/>
                <a:ext cx="381240" cy="38088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def5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Oval 46"/>
            <p:cNvSpPr/>
            <p:nvPr/>
          </p:nvSpPr>
          <p:spPr>
            <a:xfrm>
              <a:off x="2666880" y="49528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Oval 47"/>
            <p:cNvSpPr/>
            <p:nvPr/>
          </p:nvSpPr>
          <p:spPr>
            <a:xfrm>
              <a:off x="2930400" y="63244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7:02:16Z</dcterms:created>
  <dc:creator>Mary Colleen McLaughlin</dc:creator>
  <dc:description/>
  <dc:language>en-US</dc:language>
  <cp:lastModifiedBy>David Combs</cp:lastModifiedBy>
  <cp:lastPrinted>1999-04-08T20:29:04Z</cp:lastPrinted>
  <dcterms:modified xsi:type="dcterms:W3CDTF">2012-09-26T12:50:10Z</dcterms:modified>
  <cp:revision>63</cp:revision>
  <dc:subject/>
  <dc:title>ADJUSTING ENTRY FOR SUPPLIES</dc:title>
</cp:coreProperties>
</file>